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610E-6F50-44BD-96A7-B32C8B10DA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4FA7-97D5-4086-BDCE-3C44251C784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E0C5-533D-4CDC-8C5B-2614FF9DA6F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A8C00-AF03-4A81-87AA-32446648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6697F-1A24-4290-A7BA-9837740C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F90FA-5012-4C29-8D41-21B10F0C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6BE66-F2D0-43C8-A42C-A1ECD17C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96A84-FCB3-46E0-85C2-C984C9F6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68BBF-009D-4AF1-B344-19179214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B2FB7-1710-405B-AF4C-4CD123FA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78BBC-9AA4-4069-A6B5-C45B258C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09184-7101-434C-A943-2F5CF990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138F2-A0E4-419F-A724-86C7C891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B4347-75F2-49E8-BEA1-34A7B1D1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2815B-FA70-4D56-B209-27AAD054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CCA903-61B4-437A-8DB6-77B0BB4A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D8D42F-70DD-47AB-A4F7-3958C72E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6ADE7-A845-44B0-B83B-C140FFB7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077F4B-6523-481D-B76A-C51DEBC8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FF174-70E7-4BC2-A533-1D127817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8AEFF9-C37A-4E7E-8372-6CCB40AE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253542-278E-421A-90CD-E44D2005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90F49-9A39-4845-8D49-4B8ECF52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63665-119A-405D-9F56-1566D56D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877A6-8A43-49BF-9EB3-31553245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9C776-7238-4004-958A-D125BC89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8EE258-FFE4-4A84-B24F-3CAC6124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3ED4-887B-4FEC-A30B-11C71A24920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844C-3858-4A81-AAB1-3DDA8A83DB5A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5906-C870-4EF4-8165-C7B928D5153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CAEC-911D-41EB-A7FC-102E68CDA84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5109-CBBD-4202-999A-7F445A2A163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AC79-68C4-4F46-848B-65F7C24C34B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F839-C1B0-4937-802C-24899DBFC896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43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.76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2.3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,38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0.3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9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.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계 변화와 인상＋고비용 치료기기 도입 등의 병원비용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1809000"/>
              <a:chOff x="285480" y="3486240"/>
              <a:chExt cx="8572680" cy="180900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1080"/>
                <a:ext cx="8572680" cy="13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건강문제로 인한 비용은 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407200"/>
              <a:ext cx="5796000" cy="1249200"/>
              <a:chOff x="0" y="5407200"/>
              <a:chExt cx="5796000" cy="124920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1"/>
              <a:stretch/>
            </p:blipFill>
            <p:spPr>
              <a:xfrm>
                <a:off x="0" y="5407200"/>
                <a:ext cx="1390680" cy="12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1312920" y="6085080"/>
                <a:ext cx="448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점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어 있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4.0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.9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시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당뇨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 등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3.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2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2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9.9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알츠하이머병 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자살에 의한 사망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6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1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명당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3.7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는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46.2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8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세 이상은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67.2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으로 높아짐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생활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20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5.6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2.0%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-7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는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4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 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3040"/>
                <a:chOff x="357120" y="1500120"/>
                <a:chExt cx="8643960" cy="227304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96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돌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介護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형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24:25Z</dcterms:modified>
  <cp:revision>26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